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83A8-6E9F-4A1F-875A-35F65A9F7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3002-B46F-4374-96A4-47ADC098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7CBD16-B7E0-4A9D-8E8A-B2324067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409B58-1C54-4713-99ED-AADC6B32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E30B04-3FDF-49B1-8852-4E68DBC4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B9A5C5-57AF-4980-8140-ADB87DDD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0B7955-85BC-4527-BB9C-6C61474F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284AEF-FE4D-4F39-8759-74003434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3DB1A5-584B-46C3-9681-F5B2038E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B0516C-B71B-4A9E-821B-76596ADBA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8CE783-4EEB-417E-9CA5-1E59E88DF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B07D1C-6A29-4235-B1B0-42E9E32B4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1021-93A3-4596-AC53-6F691669E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52EA03-BF94-47F7-BD63-3A9B9280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D780EC-3954-4A96-8752-74A33241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427CB2-5988-455C-81D2-08A6109D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6CD34F-D3DB-4E6B-B76D-D820EDE1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EF47C2-39D0-462D-9454-B9B58F00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B03A9A-27A1-4E7B-8E5F-CC82B098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73210F-686D-45C4-8CDE-5332A00B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4CD280-CD91-4ACA-8916-DE02E6C5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D79A66-C122-4F92-B016-EBDFAB07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2D0AFE-BFB7-4B7B-BEAB-A02D709BC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903D-B0FD-4DF5-A4F9-BC93962D0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A73277-B993-4E84-AB38-0A9D0C427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A779DE-0228-4281-87E7-70BB3B5F2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7D453-7329-4FDE-8139-2FAAC9B5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12046-B4DF-4DAC-A969-A49E9956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C1E456-68CA-418A-8EB2-662998B7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9992A1-7892-49A7-B42C-8F089141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2E9DC-D2F2-4C73-8AC2-0C40AFE3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61F2C-798A-4873-BB42-13AA57B5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E8AD4D-7CE8-4B77-BCEB-1968AEDD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1DA6D-E6D8-4677-881C-72C295BE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AB68C-6983-4B0F-8E14-5DE027B69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1FA51-6B9C-443E-B2DF-4C6AB1F4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0C09EB-5621-4A38-8615-019019C91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6BCE2E-8312-4109-90D3-34649FEF8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72D962-C3EE-4853-ADC6-A1DFB588E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D0B3BB-2096-45D0-8BDA-956A6057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5ECE38-E2FC-4886-B00A-638C7C16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7F8765-3C05-4B45-AF81-E687FFAF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6399BF-2A6B-4794-BD10-8BAC471D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269FEF-704D-498C-8EAD-25DD059F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393B39-1D2B-4811-8A48-73728DCE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0CBC-7BB9-4C35-952D-FF95209B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F8A61D-78FC-4AD5-AF36-C7D83E7D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CFEE5F-CC8C-4BC0-9E0A-F0F8F471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E18EB8-6436-4875-ACFA-E94B92BD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6F3627-481F-45FF-9BF5-256C56347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75BB2B-D497-4BAF-B01F-26E29351D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2378DC-5B6F-4588-938A-4CB277C30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0823A1-A9BF-4FB1-83FF-6D756BAF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AB0A20-85AD-424B-8054-037693E4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AB3682-F2DF-4FA7-998B-94C085B3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22E5ED-8D7B-418C-8094-5C4BF6DE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630A-3AFD-4165-91FD-F3B03467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68ED8F-82E7-4EEE-8749-F008A202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A1E666-79CE-4387-8D64-4AE58BDF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275000-C075-49CE-A0C4-B3B75683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75B44F-D331-42E8-A4D2-81B2646E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B14194-FAAB-4835-B49D-75869CBD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94A394-6BA0-4011-8ED6-CB947A70C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070B77-96CD-45ED-8E65-F3736AAF7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33E926-9917-4C65-9C3E-14CB11FD9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2365BC-E6E1-4EE8-8254-96AE9685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FF2032-C7D7-421B-97E7-427ABF10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CF43-FCA6-4AD8-A6E8-8F54A791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160823-3738-444B-9ACD-45A2946B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C6221E-7529-4AC0-AD09-524AEE30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11BE44-F583-4575-BB11-94AD47CE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75672C-AD9E-4C03-95B6-A8BAB9CE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600520-6CCD-4EE7-B952-CA555E92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EB383A-0788-48CB-A0D6-A60AB176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6E994E-8713-4325-845F-DD6A2680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2C502D-447A-426A-A42D-AECE124FC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66FD8E-394B-4BB9-B792-2149BAA11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C66E7B-294A-46DF-B5AF-036EAFBB0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CC2C-AF05-415B-9299-1FFB19E7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53268A-9D09-45F7-8FBA-CFC3DDF6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F2592C-13C3-4A84-9804-2DA9D23C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EA80C9-31C4-4BC1-9D72-797D1952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5C901A-C04F-4561-835D-93F2EA8A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85F731-F06C-4B25-AF66-3CA8F2D2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76C86D-7FBD-43AD-81BA-878B1581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98EF11-6E90-4761-BAE4-BD915FE2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ABF96D-7644-4C4F-B90C-06754CC3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846506-C421-450C-B985-46C64AD6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ACBC1D-50BD-4D8D-B385-3E3E13E44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A5B88-DFC5-40AB-8601-ACDF5D36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CF0838-C68F-4E28-8A54-F28A161B3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B01402-F00F-48DB-A88C-4E1453760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5F3318-4402-4A30-AA24-0D30B1E1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F4F4C8-F24B-4CBB-9971-77D594C2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D1E594-AFC6-4F1F-A63D-6A291779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F8F47F-DA88-41C5-93CD-844BCE0B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288895-1AFF-4103-A60A-6E85337F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F8F867-CD59-4A6A-8462-3FDF32F7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BF3168-1F97-4E57-AB4B-E27D6817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734A9D-707F-415F-8D29-50A11AA3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6AFAC-C0C7-450C-BABC-1D8B7052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473707-F8C8-40BF-A636-CFD06C65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DE152F-8C0F-4036-96CB-8AD5CB6D1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CE6B89-57F0-4FFF-BA32-71131AC95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A4A931-B9E2-4673-BB6A-54B4C3EB4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C1E1EB-B27D-4E0F-A84C-58ED1422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742D94-0432-400D-8385-E12CF94D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3B44F0-30A7-469B-A35E-36F2A732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5633F3-C791-46EE-8F0A-1BB4B744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18BDAD-B1DF-4C1C-9805-AB7ED7EC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0D0817-35EF-455B-9C65-6AB1D534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9AD3-7603-454D-8C02-271B0CA6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7786-48E3-4831-AFD3-563B83D4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642604-8A38-4827-8965-FAABE4FD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AD65E6-C458-4F20-B739-CE30025E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AEF718-2962-4C39-8364-E8A43750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7E26C0-0892-4217-B8DE-DF59587C4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1FC736-6E3B-4871-A0AE-9F933799A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0DEA96-3A33-4709-A2EB-7FC1416EB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F1D931-3CE8-426E-83D9-634BE27D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6913D6-072F-4C7D-B6DA-9FA656E1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2D7614-EC53-4A7B-8F67-C8D55BC3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5DD12A-FAF1-4DA1-B0DF-0985E9D2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254E-6171-4CFD-BD79-FBF947E3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B3C7C6-6304-4D81-9467-F8668FB7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05BBE0-6D9D-44F4-86D2-E79FD47B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6A5791-9BE9-4517-B581-506A0C69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0574E1-8B8E-4FF5-A808-BF8501EB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3CDDDA-E980-429B-AA2E-7826F2BC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A2A0B5-A737-433E-ABF3-29F94BE54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754F9D-91BE-4A3F-8B72-F564E13E1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9C7B71-74C0-4870-A677-54BA733E6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C0544A-83A7-4D96-99A8-23D57024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E9682C-4C26-45EA-9495-EE23EB44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A48E-A216-41E6-819A-BFB96110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F1EC4E-CCE9-460A-B3F8-C213B46F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469A90-A5E4-47F0-828E-889B13B6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DE9082-744C-4362-B2DD-0733E4CF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407FC0-FFE0-41C1-B13F-A9236DA5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A16CAC-8DAA-4641-B727-07B50672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F57CC5-220B-406D-9A3F-84FDBF5F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82FFF4-8692-432B-88B3-3C6F6F9B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02CDA0-2195-4999-B5D8-B784D3C9E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84201E-984E-49A2-A7D1-3B1AAC83F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7D7A88-5D3D-472B-AD31-E43B67C2D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0D1ED-82F1-4453-A0B2-CB0A6C18B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9DDF7D-C4FF-436E-B088-2C65FA71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171395-0B7C-4F81-A24E-775AFAFF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E48AE5-DDEB-46DC-8C8E-99E8834B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9DA8A4-84FA-40B9-BED2-94B75D67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7619C2-3096-47A6-83E3-F17A2997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D7888D-B40E-44B7-9496-0B6872E5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0B96C0-15D4-4701-BFF6-8037DDA5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C96C80-9131-44CF-B246-D0CBDB81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D30BDC-A574-4A16-950F-4004D29A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398157-46B9-4F6D-A6ED-81C0C1CC5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6D71-4C7F-498D-AD45-A35CFEB5F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D15B4D-664D-4C07-9ABB-879C956DD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5C1343-F1A7-4ED7-91BC-5E6DD56A2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B1C2CB-8CB8-48B5-BF20-6E037F39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986544-D528-4EAD-A104-7601584D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97D90D-7B2A-460D-A4EC-263D2C49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9EC3FD-4176-45D4-839F-034C3C8A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CF4F34-FCCA-479C-9E34-811B6685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CD4A43-66A7-4439-BBE1-B22B83DC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EF9E32-2A9F-4151-A71B-5D8F0147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715B07-2201-4767-9001-8C9F315A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D5BD5-0835-40F3-A316-423DF7FCF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9C2D98-01E7-4077-9115-523FA5DA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6B2F1F-45DA-4877-9A89-B84F1F300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958B29-DAF7-4A20-A919-15A83BA00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2C818A-895C-431D-AAB7-80FE4327E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40340E-0607-4FE5-B1B2-B528EF6D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0568DD-E0A5-4C95-9ACB-FA463CF0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88D873-AC34-4CE7-93EC-5EEBE5C9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0971B7-8AB8-4DC6-8AE5-F7D0BB12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CAE8E9-5FFA-442A-8596-A8A8F8AB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E6F97A-55F9-404D-83B1-856B114B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52831-411B-42EC-9C68-BF4175F4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6FC99B-98DF-4AA2-8918-76E4B442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8B7881-8D80-42FA-AF4D-AD5E5EC3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8BD2A8-22CC-4CA6-BA18-8E689F74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288A87-B6C5-40F6-AA56-954B7D37F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4DF70A-672A-4527-A08D-81F182782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71191A-A9C5-4EA8-B00E-862ACDF97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94CFF0-947C-4195-9E5D-FB07AA61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5A9826-9BCB-4471-A125-D404B13C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E656B3-35EF-46A1-BF9E-04E3348E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6035D4-BA5F-48F4-9FEC-0CB1C4D9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5B177-0F3B-438C-A948-F0BD0695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334792-CD22-4DE0-8FC9-3200A18D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AC5C11-73F5-4E1D-93A4-1F9805B6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E67FBB-2AEC-477D-951A-24CD8C69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C10322-AC51-454F-96E2-C6328B19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0FF7E3-43B1-4602-BC8F-94B4D0CC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929304-790C-4755-8CE3-844484F05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1C5970-0BE3-4E06-86E1-F77A9EBB0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0B77C-68F4-4427-9C87-C1EBBF27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B9463-A996-4A2C-B309-6A5F4541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8906-1AA8-466C-8B73-0DE65A45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C427A-398D-4E9C-BA24-6E839CFB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E7C1B-35CB-4D13-969A-9F16BFF0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161F1-666C-4D61-9036-3ECED188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C6479-A1B8-459E-939E-65A6F1ED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3F730-E989-40C4-B0FC-F795F8B8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B64A9-E036-403E-801E-B2019604D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091F7-24CB-4AE6-A6CF-481618BFA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9D8C6-CCED-4FEF-885C-A93FC7632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E3365-0F22-46BC-A575-0DE758B0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5DFB4-F02D-40EC-A9EC-FE52531D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8631-263D-47E5-8326-6A895492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4675A-2953-4DF4-AB4C-00155844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2B2E0-BE24-4BD3-B4B3-F54BDBD7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A58E0-F0A0-4C31-A683-EED4B101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1DBB7-343A-45EB-B6DA-32616F8F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8484D-11AE-4D6C-98DA-1820D9BF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46ABF-ADA2-4A6B-9F63-E2B18D68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DB67A-0BF3-4105-9649-D548365F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C6087-32F6-4DD3-832B-7ADAC0FC0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E769F-E779-4BE2-8213-1EF78453F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66D9E-2A8D-40CA-A544-604F129D9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E15F-09C0-45F5-8B00-7A693299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A162C-1D77-47F4-AFBE-599C8C99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6EC25-25DE-4E70-9774-3FD793F3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D1C18-65E6-4FA0-8ECD-77E4A33D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7DE9E-7423-47C9-9E55-D2D4B5FB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83E61-2840-492C-8D83-BF281BD9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6BB59-CA92-4EC5-B6D2-A186008A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8D2FE-8C87-4578-ACA8-9D89204B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18186-B05A-4804-A896-277CFA3B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8C286-BD64-4ED4-A001-C858FA4D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8FFA6-04E2-4FEB-8ED2-9307F1754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AEFD-6610-48B5-A0BE-F2241FE9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78841-0F4F-45FA-8DA2-9BEA52B22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5B79A-EB27-4024-802E-0AE088B1D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65976-78EA-4247-8052-CEE9BC9C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82736-B0A1-4264-A3F8-2E746BD2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8620A-E71F-45DB-8609-CEFE2CEE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F1F9C-CE0D-4232-8F2D-F16E1314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3F07D-A91E-4FCB-808E-64272601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1F14D-85C5-4146-98D9-7CD217A1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EF43C-2A98-457F-9C50-F7F9C9E4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48991-2663-4DC1-87F9-07011C7F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36C2-B7A1-49EC-9870-52606807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62ACA-9B8D-4342-8DBF-D9C2E438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7443C-BE4C-454D-8E8B-E289D139E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C1025-516C-45C9-B38C-08F6BC2F2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8C91F-F359-4F61-A1A3-C7659324E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6AF8F-1175-4424-8765-859892DC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A268D-D3D4-4841-B7FC-CC11265D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DC9C1-D4E6-4F8B-97FE-99FB257F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0182D-76CD-45BF-B03B-8D685E59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9564B-9A72-49A1-9519-DED722E6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73DA7-7E1C-497D-84A4-E88556CA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7062-8038-426F-8C55-E604B4EB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F1BF6-4926-4F04-93F0-4DDB7ACB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5F257-C2EE-4E94-8BD3-E7CC856A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84C59-9076-4E0E-9FF8-FBAA227A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5EDD7-E1B6-4A20-ABF6-0428987C7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38C13-F1E9-461D-87CA-ACDF19D92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E7761-30CD-4FF9-B7D3-D4F5FBD3B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765CC-9955-49EE-BB0B-1D3D396F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FA9EA-4E65-42CD-A4C4-2E5F28DD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FF723-1CE7-4F03-B3B2-8AEF62F6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F9C62-BBD5-4D4D-8F76-3AFC72BA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3BA5-74B1-440A-9DCA-D2977FA2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63D98-43AC-4356-B4D6-F7671636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92E1B-DE3F-42CF-8B43-5C22F47A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CFD49-7D0C-4200-825C-BAEACD8D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00487-B5D1-47FB-ADB5-2DE08C74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14F01-329C-4471-8A77-A52FE23E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C171C-93FA-40A3-8405-01E831F0F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C8014-530F-4CFB-B646-EA67A8A62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DAA854-61C7-46C3-A862-6AF04325E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EB276E-3377-4ED5-BD67-E1E541E1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E2D6A6-B64E-480D-B1F6-D1AB3AF9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1843-17F5-4A56-BC29-08FC4F584B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09A6-461E-4524-BD20-E934CD4055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ACF1-547A-464B-BF23-581A6C7660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8D63-0A3A-468C-BF8D-11F2407EAE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2CC8-6225-49BD-99A6-A7E28FA704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D9E2-F27B-48E7-B0F1-FB2AD03E2F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C8E4-71A2-4171-9C8F-FE6B6046F0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09E0-44E9-42D4-AE08-EAEE74481F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D9EC-0DCD-4C12-9C8E-0E4358604E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4A37-72FF-4BD7-85E8-24282F6105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B748-0A80-4F91-933D-E99092673F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A738-3E4B-41FC-B98F-C7CB4E579B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C9B7-4400-4470-B54B-0E4539C89A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0BF7-74D3-4111-BBE1-7665593276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CE5C-09C4-4227-8F7A-BA3A39F508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04F3-D3EF-4E3E-A139-C46970DDD8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A896-0BE1-479A-9603-61150AE56A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5454-B4A0-4E41-B432-779EE615C2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A412-3103-494F-8EEE-E317562E03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7E44-D713-4DF3-9E03-20105E26A4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F1E0-A812-4E4E-A97B-C3B02CB65D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B94F-53FB-41C5-9983-FDBFE88E9D3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6EDF-250A-44F6-933B-B2E71923A1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2444-038C-4E18-907F-3DA5BFBFB7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C0A0-96EB-44A3-A785-8C49E80BD7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B8DF-7899-4F67-AF19-72AB3610F9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081F-1737-4BFB-B2BD-77F0FAB98B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C076-26D2-43F7-A626-7BFB264DD2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244C-DB59-4557-A279-CA38084DE2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162B-D3D3-4F70-B11E-37F0DFF4C8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8A69-2A50-45F9-9604-9B4F0B872A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FD27-A54E-4844-A96B-1B536E33C2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68F4-4A16-4870-ADF0-89580258D7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A8D35-9A04-4B85-A4D1-C19BFF258CC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430D-7979-4362-A961-8703BF2E8F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5C55-4D5E-4593-8FB3-0F903377DC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EBAD-3471-4C24-8AA5-F4B80C0798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0C5B-7AF2-43E5-82AF-57CC6E3335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D406-1C1F-4720-97F9-A55E1B42BD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630B-F1F6-46A3-A1D1-F323D1F915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7A18-1EAC-412E-AB95-9DAB86E295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2C0A-F569-426E-94B3-B0F79570D6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1076400" y="3052800"/>
            <a:ext cx="699120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8" name="图片 1" descr=""/>
          <p:cNvPicPr/>
          <p:nvPr/>
        </p:nvPicPr>
        <p:blipFill>
          <a:blip r:embed="rId1"/>
          <a:stretch/>
        </p:blipFill>
        <p:spPr>
          <a:xfrm>
            <a:off x="228600" y="853920"/>
            <a:ext cx="8686800" cy="552456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1" descr=""/>
          <p:cNvPicPr/>
          <p:nvPr/>
        </p:nvPicPr>
        <p:blipFill>
          <a:blip r:embed="rId2"/>
          <a:stretch/>
        </p:blipFill>
        <p:spPr>
          <a:xfrm>
            <a:off x="4643280" y="1887480"/>
            <a:ext cx="1441440" cy="41112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" descr=""/>
          <p:cNvPicPr/>
          <p:nvPr/>
        </p:nvPicPr>
        <p:blipFill>
          <a:blip r:embed="rId3"/>
          <a:stretch/>
        </p:blipFill>
        <p:spPr>
          <a:xfrm>
            <a:off x="4932360" y="2378160"/>
            <a:ext cx="1441440" cy="41112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" descr=""/>
          <p:cNvPicPr/>
          <p:nvPr/>
        </p:nvPicPr>
        <p:blipFill>
          <a:blip r:embed="rId4"/>
          <a:stretch/>
        </p:blipFill>
        <p:spPr>
          <a:xfrm>
            <a:off x="4211640" y="2881440"/>
            <a:ext cx="1441440" cy="41112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" descr=""/>
          <p:cNvPicPr/>
          <p:nvPr/>
        </p:nvPicPr>
        <p:blipFill>
          <a:blip r:embed="rId5"/>
          <a:stretch/>
        </p:blipFill>
        <p:spPr>
          <a:xfrm>
            <a:off x="6227640" y="3386160"/>
            <a:ext cx="1800360" cy="41112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" descr=""/>
          <p:cNvPicPr/>
          <p:nvPr/>
        </p:nvPicPr>
        <p:blipFill>
          <a:blip r:embed="rId6"/>
          <a:stretch/>
        </p:blipFill>
        <p:spPr>
          <a:xfrm>
            <a:off x="4932360" y="3905280"/>
            <a:ext cx="1800360" cy="41112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" descr=""/>
          <p:cNvPicPr/>
          <p:nvPr/>
        </p:nvPicPr>
        <p:blipFill>
          <a:blip r:embed="rId7"/>
          <a:stretch/>
        </p:blipFill>
        <p:spPr>
          <a:xfrm>
            <a:off x="4500720" y="4394160"/>
            <a:ext cx="2016000" cy="41112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" descr=""/>
          <p:cNvPicPr/>
          <p:nvPr/>
        </p:nvPicPr>
        <p:blipFill>
          <a:blip r:embed="rId8"/>
          <a:stretch/>
        </p:blipFill>
        <p:spPr>
          <a:xfrm>
            <a:off x="6012000" y="4897440"/>
            <a:ext cx="1368360" cy="41112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" descr=""/>
          <p:cNvPicPr/>
          <p:nvPr/>
        </p:nvPicPr>
        <p:blipFill>
          <a:blip r:embed="rId9"/>
          <a:stretch/>
        </p:blipFill>
        <p:spPr>
          <a:xfrm>
            <a:off x="5651640" y="5388120"/>
            <a:ext cx="1368360" cy="41112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" descr=""/>
          <p:cNvPicPr/>
          <p:nvPr/>
        </p:nvPicPr>
        <p:blipFill>
          <a:blip r:embed="rId10"/>
          <a:stretch/>
        </p:blipFill>
        <p:spPr>
          <a:xfrm>
            <a:off x="1042920" y="5891040"/>
            <a:ext cx="1657440" cy="4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图片 1" descr=""/>
          <p:cNvPicPr/>
          <p:nvPr/>
        </p:nvPicPr>
        <p:blipFill>
          <a:blip r:embed="rId1"/>
          <a:stretch/>
        </p:blipFill>
        <p:spPr>
          <a:xfrm>
            <a:off x="4557600" y="3409920"/>
            <a:ext cx="28800" cy="38160"/>
          </a:xfrm>
          <a:prstGeom prst="rect">
            <a:avLst/>
          </a:prstGeom>
          <a:ln w="0">
            <a:noFill/>
          </a:ln>
        </p:spPr>
      </p:pic>
      <p:pic>
        <p:nvPicPr>
          <p:cNvPr id="1149" name="图片 2" descr=""/>
          <p:cNvPicPr/>
          <p:nvPr/>
        </p:nvPicPr>
        <p:blipFill>
          <a:blip r:embed="rId2"/>
          <a:stretch/>
        </p:blipFill>
        <p:spPr>
          <a:xfrm>
            <a:off x="195120" y="2638440"/>
            <a:ext cx="8751960" cy="158112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1" descr=""/>
          <p:cNvPicPr/>
          <p:nvPr/>
        </p:nvPicPr>
        <p:blipFill>
          <a:blip r:embed="rId3"/>
          <a:stretch/>
        </p:blipFill>
        <p:spPr>
          <a:xfrm>
            <a:off x="971640" y="2637000"/>
            <a:ext cx="1655640" cy="41112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1" descr=""/>
          <p:cNvPicPr/>
          <p:nvPr/>
        </p:nvPicPr>
        <p:blipFill>
          <a:blip r:embed="rId4"/>
          <a:stretch/>
        </p:blipFill>
        <p:spPr>
          <a:xfrm>
            <a:off x="3635280" y="3141720"/>
            <a:ext cx="1656000" cy="41112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1" descr=""/>
          <p:cNvPicPr/>
          <p:nvPr/>
        </p:nvPicPr>
        <p:blipFill>
          <a:blip r:embed="rId5"/>
          <a:stretch/>
        </p:blipFill>
        <p:spPr>
          <a:xfrm>
            <a:off x="2484360" y="3630600"/>
            <a:ext cx="287964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171360" y="765000"/>
            <a:ext cx="8801280" cy="570564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" descr=""/>
          <p:cNvPicPr/>
          <p:nvPr/>
        </p:nvPicPr>
        <p:blipFill>
          <a:blip r:embed="rId2"/>
          <a:stretch/>
        </p:blipFill>
        <p:spPr>
          <a:xfrm>
            <a:off x="684360" y="1355760"/>
            <a:ext cx="504720" cy="41112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3"/>
          <a:stretch/>
        </p:blipFill>
        <p:spPr>
          <a:xfrm>
            <a:off x="755640" y="4005360"/>
            <a:ext cx="50472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0" name="图片 1" descr=""/>
          <p:cNvPicPr/>
          <p:nvPr/>
        </p:nvPicPr>
        <p:blipFill>
          <a:blip r:embed="rId1"/>
          <a:stretch/>
        </p:blipFill>
        <p:spPr>
          <a:xfrm>
            <a:off x="204840" y="784080"/>
            <a:ext cx="8732880" cy="571356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2"/>
          <a:stretch/>
        </p:blipFill>
        <p:spPr>
          <a:xfrm>
            <a:off x="611280" y="836640"/>
            <a:ext cx="504720" cy="41112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3"/>
          <a:stretch/>
        </p:blipFill>
        <p:spPr>
          <a:xfrm>
            <a:off x="611280" y="2349360"/>
            <a:ext cx="504720" cy="41148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4"/>
          <a:stretch/>
        </p:blipFill>
        <p:spPr>
          <a:xfrm>
            <a:off x="539640" y="4508640"/>
            <a:ext cx="50508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4" name="图片 1" descr=""/>
          <p:cNvPicPr/>
          <p:nvPr/>
        </p:nvPicPr>
        <p:blipFill>
          <a:blip r:embed="rId1"/>
          <a:stretch/>
        </p:blipFill>
        <p:spPr>
          <a:xfrm>
            <a:off x="247680" y="1343160"/>
            <a:ext cx="8648640" cy="417168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2"/>
          <a:stretch/>
        </p:blipFill>
        <p:spPr>
          <a:xfrm>
            <a:off x="6012000" y="1901880"/>
            <a:ext cx="1224000" cy="41112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3"/>
          <a:stretch/>
        </p:blipFill>
        <p:spPr>
          <a:xfrm>
            <a:off x="4211640" y="2421000"/>
            <a:ext cx="936720" cy="41112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4"/>
          <a:stretch/>
        </p:blipFill>
        <p:spPr>
          <a:xfrm>
            <a:off x="2195640" y="3471840"/>
            <a:ext cx="1368360" cy="4111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5"/>
          <a:stretch/>
        </p:blipFill>
        <p:spPr>
          <a:xfrm>
            <a:off x="3059280" y="3990960"/>
            <a:ext cx="1584000" cy="41112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6"/>
          <a:stretch/>
        </p:blipFill>
        <p:spPr>
          <a:xfrm>
            <a:off x="5580000" y="5041800"/>
            <a:ext cx="93672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图片 1" descr=""/>
          <p:cNvPicPr/>
          <p:nvPr/>
        </p:nvPicPr>
        <p:blipFill>
          <a:blip r:embed="rId1"/>
          <a:stretch/>
        </p:blipFill>
        <p:spPr>
          <a:xfrm>
            <a:off x="219240" y="857160"/>
            <a:ext cx="8705520" cy="514368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2"/>
          <a:stretch/>
        </p:blipFill>
        <p:spPr>
          <a:xfrm>
            <a:off x="3276720" y="1930320"/>
            <a:ext cx="4103640" cy="41112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3"/>
          <a:stretch/>
        </p:blipFill>
        <p:spPr>
          <a:xfrm>
            <a:off x="2340000" y="3486240"/>
            <a:ext cx="2519280" cy="41112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4"/>
          <a:stretch/>
        </p:blipFill>
        <p:spPr>
          <a:xfrm>
            <a:off x="7093080" y="3486240"/>
            <a:ext cx="1655640" cy="41112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5"/>
          <a:stretch/>
        </p:blipFill>
        <p:spPr>
          <a:xfrm>
            <a:off x="1692360" y="5041800"/>
            <a:ext cx="287964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图片 1" descr=""/>
          <p:cNvPicPr/>
          <p:nvPr/>
        </p:nvPicPr>
        <p:blipFill>
          <a:blip r:embed="rId1"/>
          <a:stretch/>
        </p:blipFill>
        <p:spPr>
          <a:xfrm>
            <a:off x="204840" y="1833480"/>
            <a:ext cx="8732880" cy="319104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2"/>
          <a:stretch/>
        </p:blipFill>
        <p:spPr>
          <a:xfrm>
            <a:off x="826920" y="2319480"/>
            <a:ext cx="5400720" cy="41112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3"/>
          <a:stretch/>
        </p:blipFill>
        <p:spPr>
          <a:xfrm>
            <a:off x="1835280" y="3919680"/>
            <a:ext cx="1512720" cy="41112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4"/>
          <a:stretch/>
        </p:blipFill>
        <p:spPr>
          <a:xfrm>
            <a:off x="4716360" y="3933720"/>
            <a:ext cx="1513080" cy="41112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5"/>
          <a:stretch/>
        </p:blipFill>
        <p:spPr>
          <a:xfrm>
            <a:off x="900000" y="4465800"/>
            <a:ext cx="151308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图片 1" descr=""/>
          <p:cNvPicPr/>
          <p:nvPr/>
        </p:nvPicPr>
        <p:blipFill>
          <a:blip r:embed="rId1"/>
          <a:stretch/>
        </p:blipFill>
        <p:spPr>
          <a:xfrm>
            <a:off x="209520" y="942840"/>
            <a:ext cx="872496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图片 1" descr=""/>
          <p:cNvPicPr/>
          <p:nvPr/>
        </p:nvPicPr>
        <p:blipFill>
          <a:blip r:embed="rId1"/>
          <a:stretch/>
        </p:blipFill>
        <p:spPr>
          <a:xfrm>
            <a:off x="196920" y="773280"/>
            <a:ext cx="8751960" cy="59227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2"/>
          <a:stretch/>
        </p:blipFill>
        <p:spPr>
          <a:xfrm>
            <a:off x="611280" y="765000"/>
            <a:ext cx="504720" cy="41148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3"/>
          <a:stretch/>
        </p:blipFill>
        <p:spPr>
          <a:xfrm>
            <a:off x="611280" y="2205000"/>
            <a:ext cx="504720" cy="41112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4"/>
          <a:stretch/>
        </p:blipFill>
        <p:spPr>
          <a:xfrm>
            <a:off x="611280" y="4292640"/>
            <a:ext cx="50472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5" name="图片 1" descr=""/>
          <p:cNvPicPr/>
          <p:nvPr/>
        </p:nvPicPr>
        <p:blipFill>
          <a:blip r:embed="rId1"/>
          <a:stretch/>
        </p:blipFill>
        <p:spPr>
          <a:xfrm>
            <a:off x="228600" y="892080"/>
            <a:ext cx="8686800" cy="544824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2"/>
          <a:stretch/>
        </p:blipFill>
        <p:spPr>
          <a:xfrm>
            <a:off x="611280" y="2421000"/>
            <a:ext cx="504720" cy="41112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3"/>
          <a:stretch/>
        </p:blipFill>
        <p:spPr>
          <a:xfrm>
            <a:off x="611280" y="909720"/>
            <a:ext cx="50472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16:43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